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AEC-1F35-46D3-B947-8E2D5D19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3F99-B0FB-452C-BD1B-06109D06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4C9-1976-4681-93AB-0B0EB70F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0A89-27CC-4531-8268-E88D5077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732C-04CD-4CA4-84C8-9F3EEB97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2FC9-8553-4867-9F9A-A83563C5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D349-869E-4C62-A18E-1E655F3F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12A8-43D2-46AB-8734-80C0C46C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D669-75F2-41DF-9F67-4EBB88D1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DB3E-F9BD-408A-8916-DC6AC4D7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AFFF-86AE-42E8-96D8-E9C39CC7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8241-C79D-4698-94B3-02D7F0C6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E7A1-7EC1-417E-B4A3-5FF5C3C4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5093-D369-4614-9BAD-860ED926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25F1-56B2-4A30-A9F8-A0C5CCF4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6B0B-563C-44AD-AB9F-CA0116A9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964D-B645-4C79-8865-E9AC8A22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031-2FC2-443D-9BA2-8747B1FF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105-9E8B-4666-B935-AF1ADF75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68CB-4951-45FC-9DEE-23874AD8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A1A5-44A5-46FE-BE87-0D680E28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227B-8A3E-439E-BAFE-E92FFB3B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ADC-8429-4603-AC01-5907D046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E64C-9577-4E6B-BE05-0770B944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2BA5-E6FA-4CD4-A978-2ECE8A82B85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E0A7-5172-4BB4-80E3-5D6060FBE8B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9440"/>
            <a:ext cx="6400800" cy="6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9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508720" y="155736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 algn="just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b3s7</cp:lastModifiedBy>
  <dcterms:modified xsi:type="dcterms:W3CDTF">2012-06-19T11:03:37Z</dcterms:modified>
  <cp:revision>30</cp:revision>
  <dc:subject/>
  <dc:title>SALARIUL</dc:title>
</cp:coreProperties>
</file>